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889-9C51-4F7E-A618-10E27457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846-9EF8-48AC-8BD6-2A0D3639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901-4262-4D47-BFDC-065B9FE8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46B-29AA-48DB-B39A-DF7B674F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749-C61D-4589-8B7F-18ABBAD7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BEB-81FE-4463-BA4B-9BFE19B6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D17-C1C7-4920-86AB-E4672FA3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40E-6B86-4947-A628-85B1552B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4E1-ADE4-4314-B7B8-3225DE46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389-672C-488A-A999-95E1FAEF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B53-CEF9-4C9C-AF84-BEBC4BEA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3CB-7092-4932-8E72-B933A88A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2399-6BB4-453D-8893-153FFAB4E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3:  The New Deal Coal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.  President does not support Civil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rican Americans continue to support h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 New Deal Coal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, made up of several different subgroups, which supports the Democr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, urban, A.A., southerners, u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200395337-001"/>
          <p:cNvPicPr/>
          <p:nvPr/>
        </p:nvPicPr>
        <p:blipFill>
          <a:blip r:embed="rId1"/>
          <a:stretch/>
        </p:blipFill>
        <p:spPr>
          <a:xfrm>
            <a:off x="228600" y="3505320"/>
            <a:ext cx="2971800" cy="2046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2544840" y="-29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544840" y="-29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logo_people"/>
          <p:cNvPicPr/>
          <p:nvPr/>
        </p:nvPicPr>
        <p:blipFill>
          <a:blip r:embed="rId2"/>
          <a:stretch/>
        </p:blipFill>
        <p:spPr>
          <a:xfrm>
            <a:off x="6248520" y="3352680"/>
            <a:ext cx="2560680" cy="2651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1292400" y="2603520"/>
            <a:ext cx="758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2527200" y="2994120"/>
            <a:ext cx="4089240" cy="869760"/>
            <a:chOff x="2527200" y="2994120"/>
            <a:chExt cx="4089240" cy="869760"/>
          </a:xfrm>
        </p:grpSpPr>
        <p:sp>
          <p:nvSpPr>
            <p:cNvPr id="51" name="Rectangle 10"/>
            <p:cNvSpPr/>
            <p:nvPr/>
          </p:nvSpPr>
          <p:spPr>
            <a:xfrm>
              <a:off x="2527200" y="29941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527200" y="2994120"/>
              <a:ext cx="408924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Picture 12" descr="prod_11169"/>
          <p:cNvPicPr/>
          <p:nvPr/>
        </p:nvPicPr>
        <p:blipFill>
          <a:blip r:embed="rId3"/>
          <a:stretch/>
        </p:blipFill>
        <p:spPr>
          <a:xfrm>
            <a:off x="2819520" y="4389480"/>
            <a:ext cx="34290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Affects of the New Deal For African Americans and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move from Republican to Democra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y McLeod Beth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of Minority Aff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 Cabine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. of Labor Frances Perk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anor Roosevelt advocate for women &amp; 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beth-mar"/>
          <p:cNvPicPr/>
          <p:nvPr/>
        </p:nvPicPr>
        <p:blipFill>
          <a:blip r:embed="rId1"/>
          <a:stretch/>
        </p:blipFill>
        <p:spPr>
          <a:xfrm>
            <a:off x="6324480" y="838080"/>
            <a:ext cx="2514600" cy="329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Portrait photo of Frances Perkins"/>
          <p:cNvPicPr/>
          <p:nvPr/>
        </p:nvPicPr>
        <p:blipFill>
          <a:blip r:embed="rId2"/>
          <a:stretch/>
        </p:blipFill>
        <p:spPr>
          <a:xfrm>
            <a:off x="4267080" y="2209680"/>
            <a:ext cx="2532240" cy="32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Anna_Eleanor_Roosevelt"/>
          <p:cNvPicPr/>
          <p:nvPr/>
        </p:nvPicPr>
        <p:blipFill>
          <a:blip r:embed="rId3"/>
          <a:stretch/>
        </p:blipFill>
        <p:spPr>
          <a:xfrm>
            <a:off x="6553080" y="3505320"/>
            <a:ext cx="22748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681280" y="571680"/>
            <a:ext cx="7772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ourt7"/>
          <p:cNvPicPr/>
          <p:nvPr/>
        </p:nvPicPr>
        <p:blipFill>
          <a:blip r:embed="rId1"/>
          <a:stretch/>
        </p:blipFill>
        <p:spPr>
          <a:xfrm>
            <a:off x="1995480" y="571680"/>
            <a:ext cx="5154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.  “Court-Packing Bill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ed age criteria placed on Supreme Court Jus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a would allow FDR to name six new supreme court judges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n’t pass – considered political mistake by both parties and Americ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tive Democrats worked w/Republican to stop any more New Deal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 Recession of 19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mployment incr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 and PWA cut significa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d friction within FDR’s 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go into mo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c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ing to jump start econom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.  The New Deal Ends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of the Re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Federal Housing Admin (FH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ns for home mortgages and re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With low roofs and wide eaves, Craftsman houses seem to embrace the earth."/>
          <p:cNvPicPr/>
          <p:nvPr/>
        </p:nvPicPr>
        <p:blipFill>
          <a:blip r:embed="rId1"/>
          <a:stretch/>
        </p:blipFill>
        <p:spPr>
          <a:xfrm>
            <a:off x="1905120" y="3276720"/>
            <a:ext cx="476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Fair Labor Standards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lished child la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work week to 44 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min. wage at .25/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 Legacy of the New D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ve Americans sense of security and h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s looked to government to protect their interest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v’t allowed to mediate between competing groups = broker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gov’t more powerful; some say too power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3:06:04Z</dcterms:created>
  <dc:creator> </dc:creator>
  <dc:description/>
  <dc:language>en-US</dc:language>
  <cp:lastModifiedBy>SUPER</cp:lastModifiedBy>
  <dcterms:modified xsi:type="dcterms:W3CDTF">2011-12-12T02:22:16Z</dcterms:modified>
  <cp:revision>7</cp:revision>
  <dc:subject/>
  <dc:title>12.3:  The New Deal Coalition</dc:title>
</cp:coreProperties>
</file>